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27.jpeg" ContentType="image/jpeg"/>
  <Override PartName="/ppt/media/image6.jpeg" ContentType="image/jpeg"/>
  <Override PartName="/ppt/media/image30.jpeg" ContentType="image/jpeg"/>
  <Override PartName="/ppt/media/image7.wmf" ContentType="image/x-wmf"/>
  <Override PartName="/ppt/media/image22.wmf" ContentType="image/x-wmf"/>
  <Override PartName="/ppt/media/image20.jpeg" ContentType="image/jpeg"/>
  <Override PartName="/ppt/media/image11.jpeg" ContentType="image/jpe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png" ContentType="image/png"/>
  <Override PartName="/ppt/media/image17.png" ContentType="image/png"/>
  <Override PartName="/ppt/media/image19.jpeg" ContentType="image/jpeg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BBA1-0E43-40F3-ACFC-1398ADEE37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BEB0-428F-48E3-80C9-6C03D4D5D9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CAB5-A685-4935-AC44-951E13436E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A9FB-9579-4C51-841C-9E30BE7E8E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F59B-337E-4EAC-85C7-7CE26B116D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C507-4ACD-437D-95D8-67EEE31105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9DF8-FCCD-481E-BFB2-A22EDAF6E0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2939-E42A-4568-8A01-CAF47C4C4E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9A5C-8D27-49AB-B720-3A69E166D2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FD46-0008-4669-BBFF-D5177C9ABE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AFAE-838E-47FF-9960-CE37A2F309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51E1-D30B-4BB9-A2C4-767BCC82E5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7B3E-F701-4E11-B5EB-9EED264CC9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669-C041-4F01-A3CB-8710F35F3F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D2AA-0324-4049-B673-258AEB6C66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1149-13D3-4671-90AF-8B16281D2B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04C7-A9C6-40E9-AFF8-604222C978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25DB-A1CF-4909-9E33-A966AE4EFB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459B-5B72-4C35-881B-752958B8BE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8537-2705-43A8-A2EB-411381F8E1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401E-B5F1-4D72-9ECF-798AA037DE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2FAD-3F1C-4CDE-80B1-DC0005BA85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76BF-3725-460E-B921-7C01AEF9C4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CD6C-3005-44F2-A456-D5F2F12E30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B4DD-0C21-4230-881B-B4913B3F45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AB4B-B8D9-4442-B75B-953E2549D0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E65-1EB5-45A5-9869-30FDAF94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BAE-9D29-40C9-8725-89C4C31C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B24-005F-4C42-BBDA-5E5AF4C5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AB5-E1F1-446D-B0D7-8673F5A7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A7F-B0CF-4B78-A56E-E24B985E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3E3-5FD6-474D-8D99-0AA306D4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0E1-C7A1-4B4F-B92E-EA439A70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5F0-3C23-435E-81A9-43FE57C7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6D1-2FAB-4EA4-8896-7C92466C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24A-6CA7-487F-BAC9-54CC9A69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279-3CF4-4E10-A670-DD5BE1A4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4A8-859A-4AA4-AFFD-1E5BB8E9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D7CB-4DBB-4288-BEC8-A2F39FD533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s://www.arttodayjapan.com/entry.php?type=p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s://www.arttodayjapan.com/entry.php?type=p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39800" y="1844640"/>
            <a:ext cx="64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66"/>
                </a:solidFill>
                <a:latin typeface="Arial"/>
                <a:ea typeface="NtMotoyaKyotai"/>
              </a:rPr>
              <a:t>カタカナ</a:t>
            </a:r>
            <a:r>
              <a:rPr b="1" lang="ja-JP" sz="9600" spc="-1" strike="noStrike">
                <a:solidFill>
                  <a:srgbClr val="ffff66"/>
                </a:solidFill>
                <a:latin typeface="Arial"/>
                <a:ea typeface="MS Gothic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66760" y="4005360"/>
            <a:ext cx="54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99"/>
                </a:solidFill>
                <a:latin typeface="Arial"/>
                <a:ea typeface="NtMotoyaKyotai"/>
              </a:rPr>
              <a:t>のりも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2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フリーフォーム 8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フリーフォーム 11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フリーフォーム 12"/>
          <p:cNvSpPr/>
          <p:nvPr/>
        </p:nvSpPr>
        <p:spPr>
          <a:xfrm>
            <a:off x="6181560" y="2206800"/>
            <a:ext cx="622440" cy="626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フリーフォーム 13"/>
          <p:cNvSpPr/>
          <p:nvPr/>
        </p:nvSpPr>
        <p:spPr>
          <a:xfrm>
            <a:off x="6534000" y="1851120"/>
            <a:ext cx="623880" cy="62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81240" y="1628640"/>
            <a:ext cx="3961080" cy="38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4537080" cy="4546440"/>
          </a:xfrm>
          <a:prstGeom prst="rect">
            <a:avLst/>
          </a:prstGeom>
          <a:ln w="0">
            <a:noFill/>
          </a:ln>
        </p:spPr>
      </p:pic>
      <p:sp>
        <p:nvSpPr>
          <p:cNvPr id="98" name="フリーフォーム 4"/>
          <p:cNvSpPr/>
          <p:nvPr/>
        </p:nvSpPr>
        <p:spPr>
          <a:xfrm rot="20400000">
            <a:off x="2216160" y="1844640"/>
            <a:ext cx="2071800" cy="145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フリーフォーム 8"/>
          <p:cNvSpPr/>
          <p:nvPr/>
        </p:nvSpPr>
        <p:spPr>
          <a:xfrm rot="1200000">
            <a:off x="5036760" y="1922040"/>
            <a:ext cx="2149560" cy="1219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roof of th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has a hole i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189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ハ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700"/>
                            </p:stCondLst>
                            <p:childTnLst>
                              <p:par>
                                <p:cTn id="2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2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7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フリーフォーム 4"/>
          <p:cNvSpPr/>
          <p:nvPr/>
        </p:nvSpPr>
        <p:spPr>
          <a:xfrm rot="18900000">
            <a:off x="2744640" y="2714400"/>
            <a:ext cx="3559320" cy="609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フリーフォーム 7"/>
          <p:cNvSpPr/>
          <p:nvPr/>
        </p:nvSpPr>
        <p:spPr>
          <a:xfrm rot="16200000">
            <a:off x="3562560" y="4284720"/>
            <a:ext cx="2862000" cy="35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65600" y="1844640"/>
            <a:ext cx="417672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い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05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54240" y="0"/>
            <a:ext cx="5343480" cy="6165720"/>
          </a:xfrm>
          <a:prstGeom prst="rect">
            <a:avLst/>
          </a:prstGeom>
          <a:ln w="0">
            <a:noFill/>
          </a:ln>
        </p:spPr>
      </p:pic>
      <p:sp>
        <p:nvSpPr>
          <p:cNvPr id="107" name="フリーフォーム 4"/>
          <p:cNvSpPr/>
          <p:nvPr/>
        </p:nvSpPr>
        <p:spPr>
          <a:xfrm rot="18900000">
            <a:off x="3368520" y="2349000"/>
            <a:ext cx="2648160" cy="455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フリーフォーム 7"/>
          <p:cNvSpPr/>
          <p:nvPr/>
        </p:nvSpPr>
        <p:spPr>
          <a:xfrm rot="16200000">
            <a:off x="3972600" y="3521520"/>
            <a:ext cx="2138400" cy="266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68520" y="6156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n </a:t>
            </a:r>
            <a:r>
              <a:rPr b="0" lang="en-NZ" sz="4000" spc="-1" strike="noStrike">
                <a:solidFill>
                  <a:srgbClr val="ff0066"/>
                </a:solidFill>
                <a:latin typeface="Kristen ITC"/>
              </a:rPr>
              <a:t>ea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40160" y="476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66cc"/>
                </a:solidFill>
                <a:latin typeface="Kristen ITC"/>
              </a:rPr>
              <a:t>イ</a:t>
            </a:r>
            <a:r>
              <a:rPr b="0" lang="ja-JP" sz="4400" spc="-1" strike="noStrike">
                <a:solidFill>
                  <a:srgbClr val="ff66cc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66cc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ea</a:t>
            </a:r>
            <a:r>
              <a:rPr b="0" lang="en-NZ" sz="4400" spc="-1" strike="noStrike">
                <a:solidFill>
                  <a:srgbClr val="ff66cc"/>
                </a:solidFill>
                <a:latin typeface="Kristen ITC"/>
              </a:rPr>
              <a:t>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フリーフォーム 5"/>
          <p:cNvSpPr/>
          <p:nvPr/>
        </p:nvSpPr>
        <p:spPr>
          <a:xfrm rot="18900000">
            <a:off x="2649240" y="2623680"/>
            <a:ext cx="2422440" cy="65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フリーフォーム 7"/>
          <p:cNvSpPr/>
          <p:nvPr/>
        </p:nvSpPr>
        <p:spPr>
          <a:xfrm>
            <a:off x="4761000" y="1955880"/>
            <a:ext cx="1682640" cy="387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フリーフォーム 12"/>
          <p:cNvSpPr/>
          <p:nvPr/>
        </p:nvSpPr>
        <p:spPr>
          <a:xfrm rot="18900000">
            <a:off x="2516040" y="3607920"/>
            <a:ext cx="4635720" cy="865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44880" y="1341360"/>
            <a:ext cx="21589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く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15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60200" y="1341360"/>
            <a:ext cx="6492600" cy="6985080"/>
          </a:xfrm>
          <a:prstGeom prst="rect">
            <a:avLst/>
          </a:prstGeom>
          <a:ln w="0">
            <a:noFill/>
          </a:ln>
        </p:spPr>
      </p:pic>
      <p:sp>
        <p:nvSpPr>
          <p:cNvPr id="117" name="フリーフォーム 5"/>
          <p:cNvSpPr/>
          <p:nvPr/>
        </p:nvSpPr>
        <p:spPr>
          <a:xfrm rot="18900000">
            <a:off x="2649240" y="2623680"/>
            <a:ext cx="2422440" cy="658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フリーフォーム 7"/>
          <p:cNvSpPr/>
          <p:nvPr/>
        </p:nvSpPr>
        <p:spPr>
          <a:xfrm>
            <a:off x="4761000" y="1955880"/>
            <a:ext cx="1682640" cy="387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フリーフォーム 12"/>
          <p:cNvSpPr/>
          <p:nvPr/>
        </p:nvSpPr>
        <p:spPr>
          <a:xfrm rot="18900000">
            <a:off x="2516040" y="3607920"/>
            <a:ext cx="4635720" cy="865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9724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ク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c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5157720"/>
            <a:ext cx="31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Looks like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c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k’s h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900"/>
                            </p:stCondLst>
                            <p:childTnLst>
                              <p:par>
                                <p:cTn id="4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400"/>
                            </p:stCondLst>
                            <p:childTnLst>
                              <p:par>
                                <p:cTn id="4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900"/>
                            </p:stCondLst>
                            <p:childTnLst>
                              <p:par>
                                <p:cTn id="4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400"/>
                            </p:stCondLst>
                            <p:childTnLst>
                              <p:par>
                                <p:cTn id="4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クリックすると新しいウィンドウで開きます"/>
          <p:cNvPicPr/>
          <p:nvPr/>
        </p:nvPicPr>
        <p:blipFill>
          <a:blip r:embed="rId1"/>
          <a:stretch/>
        </p:blipFill>
        <p:spPr>
          <a:xfrm>
            <a:off x="560520" y="260280"/>
            <a:ext cx="5197320" cy="389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クリックすると新しいウィンドウで開きます"/>
          <p:cNvPicPr/>
          <p:nvPr/>
        </p:nvPicPr>
        <p:blipFill>
          <a:blip r:embed="rId2"/>
          <a:stretch/>
        </p:blipFill>
        <p:spPr>
          <a:xfrm>
            <a:off x="992160" y="4437000"/>
            <a:ext cx="2741760" cy="2062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クリックすると新しいウィンドウで開きます"/>
          <p:cNvPicPr/>
          <p:nvPr/>
        </p:nvPicPr>
        <p:blipFill>
          <a:blip r:embed="rId3"/>
          <a:stretch/>
        </p:blipFill>
        <p:spPr>
          <a:xfrm>
            <a:off x="5024520" y="3645000"/>
            <a:ext cx="4881600" cy="292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クリックすると新しいウィンドウで開きます"/>
          <p:cNvPicPr/>
          <p:nvPr/>
        </p:nvPicPr>
        <p:blipFill>
          <a:blip r:embed="rId4"/>
          <a:stretch/>
        </p:blipFill>
        <p:spPr>
          <a:xfrm>
            <a:off x="6392880" y="604800"/>
            <a:ext cx="296712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948200" y="342432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21411000">
            <a:off x="2865240" y="1699920"/>
            <a:ext cx="814320" cy="1368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284000">
            <a:off x="6582960" y="4874760"/>
            <a:ext cx="1209600" cy="208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2394720" y="-280440"/>
            <a:ext cx="433440" cy="1368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6932520" y="2170080"/>
            <a:ext cx="433440" cy="79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1963800" y="4545000"/>
            <a:ext cx="433440" cy="79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2395440" y="5049360"/>
            <a:ext cx="433080" cy="79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2324160" y="5625720"/>
            <a:ext cx="433080" cy="10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459080"/>
            <a:ext cx="5168880" cy="3363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84880" y="285264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たくし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73240" y="5013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tax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13240" y="285264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タクシ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フリーフォーム 8"/>
          <p:cNvSpPr/>
          <p:nvPr/>
        </p:nvSpPr>
        <p:spPr>
          <a:xfrm rot="18900000">
            <a:off x="2716200" y="2595240"/>
            <a:ext cx="2508120" cy="63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フリーフォーム 11"/>
          <p:cNvSpPr/>
          <p:nvPr/>
        </p:nvSpPr>
        <p:spPr>
          <a:xfrm>
            <a:off x="4933800" y="1898640"/>
            <a:ext cx="1481400" cy="38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フリーフォーム 15"/>
          <p:cNvSpPr/>
          <p:nvPr/>
        </p:nvSpPr>
        <p:spPr>
          <a:xfrm rot="18900000">
            <a:off x="2426760" y="3531960"/>
            <a:ext cx="4867560" cy="88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フリーフォーム 17"/>
          <p:cNvSpPr/>
          <p:nvPr/>
        </p:nvSpPr>
        <p:spPr>
          <a:xfrm>
            <a:off x="4129200" y="3087720"/>
            <a:ext cx="1050840" cy="911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152880" y="1484280"/>
            <a:ext cx="3384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た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43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flipH="1" rot="13944000">
            <a:off x="2882880" y="961560"/>
            <a:ext cx="3671640" cy="4716720"/>
          </a:xfrm>
          <a:prstGeom prst="rect">
            <a:avLst/>
          </a:prstGeom>
          <a:ln w="0">
            <a:noFill/>
          </a:ln>
        </p:spPr>
      </p:pic>
      <p:sp>
        <p:nvSpPr>
          <p:cNvPr id="145" name="フリーフォーム 8"/>
          <p:cNvSpPr/>
          <p:nvPr/>
        </p:nvSpPr>
        <p:spPr>
          <a:xfrm rot="18900000">
            <a:off x="2716200" y="2595240"/>
            <a:ext cx="2508120" cy="631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フリーフォーム 11"/>
          <p:cNvSpPr/>
          <p:nvPr/>
        </p:nvSpPr>
        <p:spPr>
          <a:xfrm>
            <a:off x="4933800" y="1898640"/>
            <a:ext cx="1481400" cy="38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フリーフォーム 15"/>
          <p:cNvSpPr/>
          <p:nvPr/>
        </p:nvSpPr>
        <p:spPr>
          <a:xfrm rot="18900000">
            <a:off x="2426760" y="3531960"/>
            <a:ext cx="4867560" cy="885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フリーフォーム 17"/>
          <p:cNvSpPr/>
          <p:nvPr/>
        </p:nvSpPr>
        <p:spPr>
          <a:xfrm>
            <a:off x="4129200" y="3087720"/>
            <a:ext cx="1050840" cy="911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20880" y="18900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タ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a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dp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1800" y="558972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a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pole with one leg, soon to become a fr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800520"/>
            <a:ext cx="1774800" cy="152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0"/>
                            </p:stCondLst>
                            <p:childTnLst>
                              <p:par>
                                <p:cTn id="5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6000"/>
                            </p:stCondLst>
                            <p:childTnLst>
                              <p:par>
                                <p:cTn id="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500"/>
                            </p:stCondLst>
                            <p:childTnLst>
                              <p:par>
                                <p:cTn id="5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7000"/>
                            </p:stCondLst>
                            <p:childTnLst>
                              <p:par>
                                <p:cTn id="5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52640" y="1494000"/>
            <a:ext cx="4601880" cy="3450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61240" y="285264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ば　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49600" y="5013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61240" y="285264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バ　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フリーフォーム 5"/>
          <p:cNvSpPr/>
          <p:nvPr/>
        </p:nvSpPr>
        <p:spPr>
          <a:xfrm rot="18900000">
            <a:off x="2649240" y="2623680"/>
            <a:ext cx="2422440" cy="65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フリーフォーム 7"/>
          <p:cNvSpPr/>
          <p:nvPr/>
        </p:nvSpPr>
        <p:spPr>
          <a:xfrm>
            <a:off x="4761000" y="1955880"/>
            <a:ext cx="1682640" cy="387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フリーフォーム 12"/>
          <p:cNvSpPr/>
          <p:nvPr/>
        </p:nvSpPr>
        <p:spPr>
          <a:xfrm rot="18900000">
            <a:off x="2516040" y="3607920"/>
            <a:ext cx="4635720" cy="865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44880" y="1341360"/>
            <a:ext cx="21589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く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56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160200" y="1341360"/>
            <a:ext cx="6492600" cy="6985080"/>
          </a:xfrm>
          <a:prstGeom prst="rect">
            <a:avLst/>
          </a:prstGeom>
          <a:ln w="0">
            <a:noFill/>
          </a:ln>
        </p:spPr>
      </p:pic>
      <p:sp>
        <p:nvSpPr>
          <p:cNvPr id="158" name="フリーフォーム 5"/>
          <p:cNvSpPr/>
          <p:nvPr/>
        </p:nvSpPr>
        <p:spPr>
          <a:xfrm rot="18900000">
            <a:off x="2649240" y="2623680"/>
            <a:ext cx="2422440" cy="658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フリーフォーム 7"/>
          <p:cNvSpPr/>
          <p:nvPr/>
        </p:nvSpPr>
        <p:spPr>
          <a:xfrm>
            <a:off x="4761000" y="1955880"/>
            <a:ext cx="1682640" cy="387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フリーフォーム 12"/>
          <p:cNvSpPr/>
          <p:nvPr/>
        </p:nvSpPr>
        <p:spPr>
          <a:xfrm rot="18900000">
            <a:off x="2516040" y="3607920"/>
            <a:ext cx="4635720" cy="865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9724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ク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c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157720"/>
            <a:ext cx="31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Looks like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c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k’s h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900"/>
                            </p:stCondLst>
                            <p:childTnLst>
                              <p:par>
                                <p:cTn id="6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400"/>
                            </p:stCondLst>
                            <p:childTnLst>
                              <p:par>
                                <p:cTn id="6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900"/>
                            </p:stCondLst>
                            <p:childTnLst>
                              <p:par>
                                <p:cTn id="6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400"/>
                            </p:stCondLst>
                            <p:childTnLst>
                              <p:par>
                                <p:cTn id="6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フリーフォーム 6"/>
          <p:cNvSpPr/>
          <p:nvPr/>
        </p:nvSpPr>
        <p:spPr>
          <a:xfrm>
            <a:off x="3836880" y="1852560"/>
            <a:ext cx="914400" cy="61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フリーフォーム 8"/>
          <p:cNvSpPr/>
          <p:nvPr/>
        </p:nvSpPr>
        <p:spPr>
          <a:xfrm>
            <a:off x="3375000" y="3165480"/>
            <a:ext cx="882720" cy="53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フリーフォーム 11"/>
          <p:cNvSpPr/>
          <p:nvPr/>
        </p:nvSpPr>
        <p:spPr>
          <a:xfrm rot="18900000">
            <a:off x="3657600" y="5116320"/>
            <a:ext cx="324000" cy="65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フリーフォーム 14"/>
          <p:cNvSpPr/>
          <p:nvPr/>
        </p:nvSpPr>
        <p:spPr>
          <a:xfrm rot="18900000">
            <a:off x="3487680" y="3927600"/>
            <a:ext cx="3943440" cy="60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73600" y="1268280"/>
            <a:ext cx="22302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し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68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500"/>
                            </p:stCondLst>
                            <p:childTnLst>
                              <p:par>
                                <p:cTn id="6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 flipH="1">
            <a:off x="-232200" y="0"/>
            <a:ext cx="9705960" cy="6048360"/>
          </a:xfrm>
          <a:prstGeom prst="rect">
            <a:avLst/>
          </a:prstGeom>
          <a:ln w="0">
            <a:noFill/>
          </a:ln>
        </p:spPr>
      </p:pic>
      <p:sp>
        <p:nvSpPr>
          <p:cNvPr id="170" name="フリーフォーム 6"/>
          <p:cNvSpPr/>
          <p:nvPr/>
        </p:nvSpPr>
        <p:spPr>
          <a:xfrm>
            <a:off x="5630760" y="1844640"/>
            <a:ext cx="914400" cy="615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フリーフォーム 8"/>
          <p:cNvSpPr/>
          <p:nvPr/>
        </p:nvSpPr>
        <p:spPr>
          <a:xfrm>
            <a:off x="5168880" y="3157560"/>
            <a:ext cx="882720" cy="533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フリーフォーム 11"/>
          <p:cNvSpPr/>
          <p:nvPr/>
        </p:nvSpPr>
        <p:spPr>
          <a:xfrm rot="18900000">
            <a:off x="5451480" y="5108040"/>
            <a:ext cx="324000" cy="654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フリーフォーム 14"/>
          <p:cNvSpPr/>
          <p:nvPr/>
        </p:nvSpPr>
        <p:spPr>
          <a:xfrm rot="18900000">
            <a:off x="5281200" y="3919680"/>
            <a:ext cx="3943440" cy="599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4160" y="6156360"/>
            <a:ext cx="77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shi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p with two sai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シ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shi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700"/>
                            </p:stCondLst>
                            <p:childTnLst>
                              <p:par>
                                <p:cTn id="6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200"/>
                            </p:stCondLst>
                            <p:childTnLst>
                              <p:par>
                                <p:cTn id="7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700"/>
                            </p:stCondLst>
                            <p:childTnLst>
                              <p:par>
                                <p:cTn id="7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200"/>
                            </p:stCondLst>
                            <p:childTnLst>
                              <p:par>
                                <p:cTn id="70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700"/>
                            </p:stCondLst>
                            <p:childTnLst>
                              <p:par>
                                <p:cTn id="7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928880" y="549360"/>
            <a:ext cx="5261040" cy="3643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04640"/>
            <a:ext cx="5105520" cy="3537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4714920" cy="3267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0160" y="1197000"/>
            <a:ext cx="4133880" cy="3475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136520" y="465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rental 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61040" y="278136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れんたか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76880" y="2781360"/>
            <a:ext cx="55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レンタカ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フリーフォーム 4"/>
          <p:cNvSpPr/>
          <p:nvPr/>
        </p:nvSpPr>
        <p:spPr>
          <a:xfrm rot="18000000">
            <a:off x="2500920" y="2656440"/>
            <a:ext cx="3085920" cy="21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フリーフォーム 7"/>
          <p:cNvSpPr/>
          <p:nvPr/>
        </p:nvSpPr>
        <p:spPr>
          <a:xfrm rot="18000000">
            <a:off x="3835440" y="3703320"/>
            <a:ext cx="3200400" cy="123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368520" y="1268280"/>
            <a:ext cx="359892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れ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86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909400">
            <a:off x="2792160" y="475920"/>
            <a:ext cx="5429160" cy="5472000"/>
          </a:xfrm>
          <a:prstGeom prst="rect">
            <a:avLst/>
          </a:prstGeom>
          <a:ln w="0">
            <a:noFill/>
          </a:ln>
        </p:spPr>
      </p:pic>
      <p:sp>
        <p:nvSpPr>
          <p:cNvPr id="188" name="フリーフォーム 4"/>
          <p:cNvSpPr/>
          <p:nvPr/>
        </p:nvSpPr>
        <p:spPr>
          <a:xfrm rot="18000000">
            <a:off x="2991600" y="1861200"/>
            <a:ext cx="3085920" cy="2189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フリーフォーム 7"/>
          <p:cNvSpPr/>
          <p:nvPr/>
        </p:nvSpPr>
        <p:spPr>
          <a:xfrm rot="18000000">
            <a:off x="4325760" y="2908080"/>
            <a:ext cx="3200400" cy="1238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8900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レ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81240" y="5805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is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cord is bro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40" y="2411280"/>
            <a:ext cx="54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85240" y="221220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0" y="2411280"/>
            <a:ext cx="54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1791800" y="3013200"/>
            <a:ext cx="9720" cy="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800"/>
                            </p:stCondLst>
                            <p:childTnLst>
                              <p:par>
                                <p:cTn id="7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300"/>
                            </p:stCondLst>
                            <p:childTnLst>
                              <p:par>
                                <p:cTn id="7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4300"/>
                            </p:stCondLst>
                            <p:childTnLst>
                              <p:par>
                                <p:cTn id="8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3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5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7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199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201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600"/>
                            </p:stCondLst>
                            <p:childTnLst>
                              <p:par>
                                <p:cTn id="8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100"/>
                            </p:stCondLst>
                            <p:childTnLst>
                              <p:par>
                                <p:cTn id="8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600"/>
                            </p:stCondLst>
                            <p:childTnLst>
                              <p:par>
                                <p:cTn id="8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9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1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3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フリーフォーム 4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リーフォーム 8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24160" y="1557360"/>
            <a:ext cx="370512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は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57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フリーフォーム 8"/>
          <p:cNvSpPr/>
          <p:nvPr/>
        </p:nvSpPr>
        <p:spPr>
          <a:xfrm rot="18900000">
            <a:off x="2716200" y="2595240"/>
            <a:ext cx="2508120" cy="63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フリーフォーム 11"/>
          <p:cNvSpPr/>
          <p:nvPr/>
        </p:nvSpPr>
        <p:spPr>
          <a:xfrm>
            <a:off x="4933800" y="1898640"/>
            <a:ext cx="1481400" cy="38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フリーフォーム 15"/>
          <p:cNvSpPr/>
          <p:nvPr/>
        </p:nvSpPr>
        <p:spPr>
          <a:xfrm rot="18900000">
            <a:off x="2426760" y="3531960"/>
            <a:ext cx="4867560" cy="88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フリーフォーム 17"/>
          <p:cNvSpPr/>
          <p:nvPr/>
        </p:nvSpPr>
        <p:spPr>
          <a:xfrm>
            <a:off x="4129200" y="3087720"/>
            <a:ext cx="1050840" cy="911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152880" y="1484280"/>
            <a:ext cx="3384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た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ransition>
    <p:zoom dir="out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flipH="1" rot="13944000">
            <a:off x="2882880" y="961560"/>
            <a:ext cx="3671640" cy="4716720"/>
          </a:xfrm>
          <a:prstGeom prst="rect">
            <a:avLst/>
          </a:prstGeom>
          <a:ln w="0">
            <a:noFill/>
          </a:ln>
        </p:spPr>
      </p:pic>
      <p:sp>
        <p:nvSpPr>
          <p:cNvPr id="276" name="フリーフォーム 8"/>
          <p:cNvSpPr/>
          <p:nvPr/>
        </p:nvSpPr>
        <p:spPr>
          <a:xfrm rot="18900000">
            <a:off x="2716200" y="2595240"/>
            <a:ext cx="2508120" cy="631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フリーフォーム 11"/>
          <p:cNvSpPr/>
          <p:nvPr/>
        </p:nvSpPr>
        <p:spPr>
          <a:xfrm>
            <a:off x="4933800" y="1898640"/>
            <a:ext cx="1481400" cy="38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フリーフォーム 15"/>
          <p:cNvSpPr/>
          <p:nvPr/>
        </p:nvSpPr>
        <p:spPr>
          <a:xfrm rot="18900000">
            <a:off x="2426760" y="3531960"/>
            <a:ext cx="4867560" cy="885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フリーフォーム 17"/>
          <p:cNvSpPr/>
          <p:nvPr/>
        </p:nvSpPr>
        <p:spPr>
          <a:xfrm>
            <a:off x="4129200" y="3087720"/>
            <a:ext cx="1050840" cy="911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20880" y="18900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タ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a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dp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1800" y="558972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a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dpole with one leg, soon to become a fr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800520"/>
            <a:ext cx="1774800" cy="152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6000"/>
                            </p:stCondLst>
                            <p:childTnLst>
                              <p:par>
                                <p:cTn id="9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6500"/>
                            </p:stCondLst>
                            <p:childTnLst>
                              <p:par>
                                <p:cTn id="9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7000"/>
                            </p:stCondLst>
                            <p:childTnLst>
                              <p:par>
                                <p:cTn id="9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7500"/>
                            </p:stCondLst>
                            <p:childTnLst>
                              <p:par>
                                <p:cTn id="9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8000"/>
                            </p:stCondLst>
                            <p:childTnLst>
                              <p:par>
                                <p:cTn id="9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8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0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フリーフォーム 7"/>
          <p:cNvSpPr/>
          <p:nvPr/>
        </p:nvSpPr>
        <p:spPr>
          <a:xfrm>
            <a:off x="3257640" y="2441520"/>
            <a:ext cx="3486240" cy="78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フリーフォーム 17"/>
          <p:cNvSpPr/>
          <p:nvPr/>
        </p:nvSpPr>
        <p:spPr>
          <a:xfrm rot="18000000">
            <a:off x="4237560" y="3851640"/>
            <a:ext cx="3295800" cy="75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フリーフォーム 19"/>
          <p:cNvSpPr/>
          <p:nvPr/>
        </p:nvSpPr>
        <p:spPr>
          <a:xfrm rot="18000000">
            <a:off x="4774320" y="4885560"/>
            <a:ext cx="342720" cy="72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フリーフォーム 14"/>
          <p:cNvSpPr/>
          <p:nvPr/>
        </p:nvSpPr>
        <p:spPr>
          <a:xfrm rot="18000000">
            <a:off x="1818360" y="3280320"/>
            <a:ext cx="4603680" cy="763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649600" y="1268280"/>
            <a:ext cx="446400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か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288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3000"/>
                            </p:stCondLst>
                            <p:childTnLst>
                              <p:par>
                                <p:cTn id="9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84520" y="2565360"/>
            <a:ext cx="4822560" cy="4705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 flipH="1">
            <a:off x="2360520" y="1125360"/>
            <a:ext cx="4014720" cy="5173920"/>
          </a:xfrm>
          <a:prstGeom prst="rect">
            <a:avLst/>
          </a:prstGeom>
          <a:ln w="0">
            <a:noFill/>
          </a:ln>
        </p:spPr>
      </p:pic>
      <p:sp>
        <p:nvSpPr>
          <p:cNvPr id="291" name="フリーフォーム 7"/>
          <p:cNvSpPr/>
          <p:nvPr/>
        </p:nvSpPr>
        <p:spPr>
          <a:xfrm>
            <a:off x="3257640" y="2441520"/>
            <a:ext cx="3486240" cy="781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フリーフォーム 17"/>
          <p:cNvSpPr/>
          <p:nvPr/>
        </p:nvSpPr>
        <p:spPr>
          <a:xfrm rot="18000000">
            <a:off x="4237560" y="3851640"/>
            <a:ext cx="3295800" cy="753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フリーフォーム 19"/>
          <p:cNvSpPr/>
          <p:nvPr/>
        </p:nvSpPr>
        <p:spPr>
          <a:xfrm rot="18000000">
            <a:off x="4774320" y="4885560"/>
            <a:ext cx="342720" cy="722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フリーフォーム 14"/>
          <p:cNvSpPr/>
          <p:nvPr/>
        </p:nvSpPr>
        <p:spPr>
          <a:xfrm rot="18000000">
            <a:off x="1818360" y="3280320"/>
            <a:ext cx="4603680" cy="763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40160" y="18900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カ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c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2880" y="6021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C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the bread with a sharp knif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3600"/>
                            </p:stCondLst>
                            <p:childTnLst>
                              <p:par>
                                <p:cTn id="9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4100"/>
                            </p:stCondLst>
                            <p:childTnLst>
                              <p:par>
                                <p:cTn id="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4600"/>
                            </p:stCondLst>
                            <p:childTnLst>
                              <p:par>
                                <p:cTn id="9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100"/>
                            </p:stCondLst>
                            <p:childTnLst>
                              <p:par>
                                <p:cTn id="9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600"/>
                            </p:stCondLst>
                            <p:childTnLst>
                              <p:par>
                                <p:cTn id="10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0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71440" y="620640"/>
            <a:ext cx="5573880" cy="386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376880" y="2936880"/>
            <a:ext cx="5265720" cy="3728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rot="16200000">
            <a:off x="2323800" y="1233360"/>
            <a:ext cx="433440" cy="10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7148520" y="2528280"/>
            <a:ext cx="649080" cy="1440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5060880" y="3249360"/>
            <a:ext cx="576360" cy="1655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4911840"/>
            <a:ext cx="6818400" cy="19461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4305240" y="620640"/>
            <a:ext cx="5600880" cy="4200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824520" y="2133720"/>
            <a:ext cx="433440" cy="718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2144880" y="4148280"/>
            <a:ext cx="1008000" cy="24494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1748520" y="729360"/>
            <a:ext cx="433440" cy="1368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7616520" y="2062080"/>
            <a:ext cx="43344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-360" y="5300640"/>
            <a:ext cx="8888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-30240" y="907920"/>
          <a:ext cx="9936000" cy="5334120"/>
        </p:xfrm>
        <a:graphic>
          <a:graphicData uri="http://schemas.openxmlformats.org/drawingml/2006/table">
            <a:tbl>
              <a:tblPr/>
              <a:tblGrid>
                <a:gridCol w="663840"/>
                <a:gridCol w="662040"/>
                <a:gridCol w="662040"/>
                <a:gridCol w="662400"/>
                <a:gridCol w="663840"/>
                <a:gridCol w="662040"/>
                <a:gridCol w="660600"/>
                <a:gridCol w="662400"/>
                <a:gridCol w="663840"/>
                <a:gridCol w="660600"/>
                <a:gridCol w="662040"/>
                <a:gridCol w="663840"/>
                <a:gridCol w="663840"/>
                <a:gridCol w="660600"/>
                <a:gridCol w="66204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や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あ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ゆ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つ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え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よ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お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4016520" y="119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16520" y="112536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68520" y="119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68520" y="1197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624880" y="32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61240" y="1197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257960" y="220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4880" y="43657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53737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624880" y="112536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57960" y="32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9240" y="1989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32520" y="119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329760" y="2060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57960" y="220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553600" y="1125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624880" y="32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29600" y="3357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4880" y="4365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544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77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2" dur="770" fill="hold"/>
                                        <p:tgtEl>
                                          <p:spTgt spid="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4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6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7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9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1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77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2" dur="770" fill="hold"/>
                                        <p:tgtEl>
                                          <p:spTgt spid="3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4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6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7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77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2" dur="770" fill="hold"/>
                                        <p:tgtEl>
                                          <p:spTgt spid="3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4" dur="77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6" dur="77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2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4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6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77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7" dur="770" fill="hold"/>
                                        <p:tgtEl>
                                          <p:spTgt spid="3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9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1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77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2" dur="770" fill="hold"/>
                                        <p:tgtEl>
                                          <p:spTgt spid="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4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6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77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7" dur="77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9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1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073240" y="404640"/>
            <a:ext cx="5616720" cy="3656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720880" y="486900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タクシ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76880" y="4149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tax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880" y="620640"/>
            <a:ext cx="2087640" cy="936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ふくしゅ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400"/>
                            </p:stCondLst>
                            <p:childTnLst>
                              <p:par>
                                <p:cTn id="1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432160" y="333360"/>
            <a:ext cx="5257800" cy="4419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800520" y="4724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rental 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32160" y="522936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レンタカ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77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770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1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3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360520" y="260280"/>
            <a:ext cx="5141880" cy="3995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440160" y="4437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motor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08160" y="5157720"/>
            <a:ext cx="33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バイ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4537080" cy="4546440"/>
          </a:xfrm>
          <a:prstGeom prst="rect">
            <a:avLst/>
          </a:prstGeom>
          <a:ln w="0">
            <a:noFill/>
          </a:ln>
        </p:spPr>
      </p:pic>
      <p:sp>
        <p:nvSpPr>
          <p:cNvPr id="59" name="フリーフォーム 4"/>
          <p:cNvSpPr/>
          <p:nvPr/>
        </p:nvSpPr>
        <p:spPr>
          <a:xfrm rot="20400000">
            <a:off x="2216160" y="1844640"/>
            <a:ext cx="2071800" cy="145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フリーフォーム 8"/>
          <p:cNvSpPr/>
          <p:nvPr/>
        </p:nvSpPr>
        <p:spPr>
          <a:xfrm rot="1200000">
            <a:off x="5036760" y="1922040"/>
            <a:ext cx="2149560" cy="1219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roof of th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has a hole i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97240" y="189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ハ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2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70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144880" y="404640"/>
            <a:ext cx="5394240" cy="40467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368520" y="4797360"/>
            <a:ext cx="33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バ　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48160" y="4437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496880" y="907920"/>
            <a:ext cx="6139080" cy="4251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2312640" y="2036160"/>
            <a:ext cx="598680" cy="1224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2324880" y="3464640"/>
            <a:ext cx="433440" cy="936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2396160" y="3825000"/>
            <a:ext cx="433440" cy="93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5961960" y="2348640"/>
            <a:ext cx="287280" cy="43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フリーフォーム 8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フリーフォーム 11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フリーフォーム 12"/>
          <p:cNvSpPr/>
          <p:nvPr/>
        </p:nvSpPr>
        <p:spPr>
          <a:xfrm>
            <a:off x="6181560" y="2206800"/>
            <a:ext cx="622440" cy="626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フリーフォーム 13"/>
          <p:cNvSpPr/>
          <p:nvPr/>
        </p:nvSpPr>
        <p:spPr>
          <a:xfrm>
            <a:off x="6534000" y="1851120"/>
            <a:ext cx="623880" cy="62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81240" y="1628640"/>
            <a:ext cx="3961080" cy="38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68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フリーフォーム 5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フリーフォーム 4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フリーフォーム 9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52880" y="1700280"/>
            <a:ext cx="370512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  <p:sp>
        <p:nvSpPr>
          <p:cNvPr id="73" name=""/>
          <p:cNvSpPr/>
          <p:nvPr/>
        </p:nvSpPr>
        <p:spPr>
          <a:xfrm>
            <a:off x="344520" y="333360"/>
            <a:ext cx="3313080" cy="165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NtMotoyaKyotai"/>
              </a:rPr>
              <a:t>あたらしいカタカ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968400" y="0"/>
            <a:ext cx="10874520" cy="756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p is dribbling down his c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フリーフォーム 9"/>
          <p:cNvSpPr/>
          <p:nvPr/>
        </p:nvSpPr>
        <p:spPr>
          <a:xfrm rot="2700000">
            <a:off x="5738040" y="2991240"/>
            <a:ext cx="719280" cy="2160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40160" y="26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ス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33cc33"/>
                </a:solidFill>
                <a:latin typeface="Kristen ITC"/>
              </a:rPr>
              <a:t>s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フリーフォーム 5"/>
          <p:cNvSpPr/>
          <p:nvPr/>
        </p:nvSpPr>
        <p:spPr>
          <a:xfrm>
            <a:off x="4305240" y="2276640"/>
            <a:ext cx="190656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フリーフォーム 4"/>
          <p:cNvSpPr/>
          <p:nvPr/>
        </p:nvSpPr>
        <p:spPr>
          <a:xfrm rot="18900000">
            <a:off x="3668760" y="3311280"/>
            <a:ext cx="29559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フリーフォーム 9"/>
          <p:cNvSpPr/>
          <p:nvPr/>
        </p:nvSpPr>
        <p:spPr>
          <a:xfrm rot="2700000">
            <a:off x="5324760" y="3815640"/>
            <a:ext cx="173052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26120" y="0"/>
            <a:ext cx="3780000" cy="4653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2880" y="404640"/>
            <a:ext cx="4540320" cy="558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1844640" y="3871800"/>
            <a:ext cx="441360" cy="851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92520" y="3567240"/>
            <a:ext cx="4388040" cy="3290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rot="16200000">
            <a:off x="6502320" y="4327560"/>
            <a:ext cx="657360" cy="876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24520" y="549360"/>
            <a:ext cx="2305080" cy="3095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4804800">
            <a:off x="3152160" y="3862080"/>
            <a:ext cx="43344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49240" y="981000"/>
            <a:ext cx="5141880" cy="39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28880" y="51577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motor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61240" y="285264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ばい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61240" y="285264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バイ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Ministry of Education</cp:lastModifiedBy>
  <dcterms:modified xsi:type="dcterms:W3CDTF">2010-02-08T11:08:48Z</dcterms:modified>
  <cp:revision>71</cp:revision>
  <dc:subject/>
  <dc:title>スライド 1</dc:title>
</cp:coreProperties>
</file>